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A26E-10F2-4277-ABC2-31A86EDF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476B-C89E-4AB3-B1BC-E91D4E0A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5E22-0566-40B8-956B-A981E23F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575D-06EB-47FA-80A5-071A1CD7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452A-7294-40D6-A134-356D0735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3366-DCF4-4AF4-9025-D0A3F3B2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27C6-CA61-44FE-AFA0-4758715E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3281-7C5C-46FC-81B9-8B470CA3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0680-8B02-4F37-BCA8-ECE2B851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38B1-382F-4A67-96EC-AD8493C6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9776-364E-4259-9F28-B7B32DF4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E529-35F5-42FA-85A3-24788F6E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0B68-FFD8-4AA7-B319-DC9BDCB8B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p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hapter expl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s excep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they are us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exception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o use exce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ions provide a control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hould we use them? Rather than an if statement  or while lo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we wish to add a series of positive numbers and end the series with a -1. That is not the exception. (it is normal input) We use exception handling for errors not normal in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jargon of exceptions – Java’s own termi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ws, throw, try, catch and finally are keywords that carry out the task or error det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ry – catch example program: ExceptionDemo1 pages 300-301. “a number doubling progra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inputs an integerr and program doubles it and displays the answer in another field. If the user inputs something ‘not a number’ the ‘parseInt method will not be able to process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 shot page 302 shows ‘good’ integer and doubles it. ‘bad’ integer ‘xx’ blanks the output field and err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part of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{int number = Integer.parseInt (inputField.setText (Integer.toString( 2 * number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 catch (Number FormatException errorObject) { JOptionPane.showMessageDialog (null, “Error in number retype” );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‘new’ statement: general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{ a series of statements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h (some exception errorObject) { handle the exception;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ava block { } all statement within curly br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e statements in the try block if no error catch block ignored. If error occurs catch block is execu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(NumberFormatException errorObject) similar to a methos decla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eInt may throw a NumberFormatException if it does catch block will execu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(NumberFormatException errorObject) { OPtionPane.showMessageDialog (null, “Error “ + errorObject.toString ( ) );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returns the name of the 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 void aMethod ( 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{ // some code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(Exception errorObject) {handle i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nd 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try block produces an exception – execution terminates – variables declared within it become inaccessible (can not be used in catch block) They must be declared outside the try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{ code involving s…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(exception errorObject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ptionPane.showMessageDialog ( null , “Error: s is “ + s);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ception = something has gone wrong – an error has occurred – not a good 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the use was asked to input a size (numeric) and put in a name (st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gram cou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 and return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 the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 a help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 an attempt to load a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not be found (possible responses – same as last 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mpt to print and out of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rinter software examines the status and will indicate out of paper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error notification? How is it provid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and hardware systems in Java are pre-packaged (classes and methods) we don’t care how they work internally – but – vital we are informed of error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may be set up to detect errors and take alternative action. Some errors handled locally – more serious are passed “upstair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inter runs out of pap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ly a technician refills the printer but what if the organization is out – a manager may need to be in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chnician trips on a cable and breaks a leg (possible legal action) Should be handled by a managing dire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ogy: a person doing a job and a method when a error occurs. Java exception facilities allow us to set up a plan of 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mething wrong – handle the problem else handle the normal sit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ven: do A()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o B()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o C()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o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A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 do A() went wrong) handle the do A()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do B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 do B() went wrong) handle the do B()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do C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 do C() went wrong) handle the do C()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an error condition occurs (we do not want it to occur) Java exception facilities allow us to code the normal and the exceptional 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methods can only pass back a single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ptions and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variables are not always the answer as to when an error occu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errorhappened = fal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hichaffects error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errorHappened = =  true 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problem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not how errors are indicated by Ja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use the object approach. We use ‘new’ to create an instance of the appropriate exception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region of the program may check for the errors ex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stance of the exception class is created to indicate “an error happen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17:43:27Z</dcterms:created>
  <dc:creator>ITS</dc:creator>
  <dc:description/>
  <dc:language>en-US</dc:language>
  <cp:lastModifiedBy> </cp:lastModifiedBy>
  <dcterms:modified xsi:type="dcterms:W3CDTF">2005-05-11T13:05:05Z</dcterms:modified>
  <cp:revision>10</cp:revision>
  <dc:subject/>
  <dc:title>Exceptions Chapter 16</dc:title>
</cp:coreProperties>
</file>